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12.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Times New Roman"/>
            </a:endParaRPr>
          </a:p>
        </p:txBody>
      </p:sp>
      <p:sp>
        <p:nvSpPr>
          <p:cNvPr id="444"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5" name="PlaceHolder 2"/>
          <p:cNvSpPr>
            <a:spLocks noGrp="1"/>
          </p:cNvSpPr>
          <p:nvPr>
            <p:ph type="dt" idx="14"/>
          </p:nvPr>
        </p:nvSpPr>
        <p:spPr>
          <a:xfrm>
            <a:off x="3814560" y="-360"/>
            <a:ext cx="291924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46"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move the slide</a:t>
            </a:r>
            <a:endParaRPr b="0" lang="en-US" sz="4500" spc="-1" strike="noStrike">
              <a:solidFill>
                <a:srgbClr val="000000"/>
              </a:solidFill>
              <a:latin typeface="Times New Roman"/>
            </a:endParaRPr>
          </a:p>
        </p:txBody>
      </p:sp>
      <p:sp>
        <p:nvSpPr>
          <p:cNvPr id="447"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8" name="PlaceHolder 5"/>
          <p:cNvSpPr>
            <a:spLocks noGrp="1"/>
          </p:cNvSpPr>
          <p:nvPr>
            <p:ph type="ftr" idx="15"/>
          </p:nvPr>
        </p:nvSpPr>
        <p:spPr>
          <a:xfrm>
            <a:off x="-360" y="937080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49" name="PlaceHolder 6"/>
          <p:cNvSpPr>
            <a:spLocks noGrp="1"/>
          </p:cNvSpPr>
          <p:nvPr>
            <p:ph type="sldNum" idx="16"/>
          </p:nvPr>
        </p:nvSpPr>
        <p:spPr>
          <a:xfrm>
            <a:off x="3814560" y="9370800"/>
            <a:ext cx="2919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E0AEF9B-7C09-4CDB-8E72-799B5634FB3E}"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901800" y="739800"/>
            <a:ext cx="4932360" cy="3700440"/>
          </a:xfrm>
          <a:prstGeom prst="rect">
            <a:avLst/>
          </a:prstGeom>
          <a:ln w="0">
            <a:noFill/>
          </a:ln>
        </p:spPr>
      </p:sp>
      <p:sp>
        <p:nvSpPr>
          <p:cNvPr id="51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9016337-413B-44BF-A57F-027091B9E850}"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901800" y="739800"/>
            <a:ext cx="4932360" cy="3700440"/>
          </a:xfrm>
          <a:prstGeom prst="rect">
            <a:avLst/>
          </a:prstGeom>
          <a:ln w="0">
            <a:noFill/>
          </a:ln>
        </p:spPr>
      </p:sp>
      <p:sp>
        <p:nvSpPr>
          <p:cNvPr id="546" name="PlaceHolder 2"/>
          <p:cNvSpPr>
            <a:spLocks noGrp="1"/>
          </p:cNvSpPr>
          <p:nvPr>
            <p:ph type="body"/>
          </p:nvPr>
        </p:nvSpPr>
        <p:spPr>
          <a:xfrm>
            <a:off x="444240" y="4800240"/>
            <a:ext cx="5389560" cy="4862520"/>
          </a:xfrm>
          <a:prstGeom prst="rect">
            <a:avLst/>
          </a:prstGeom>
          <a:noFill/>
          <a:ln w="0">
            <a:noFill/>
          </a:ln>
        </p:spPr>
        <p:txBody>
          <a:bodyPr anchor="t">
            <a:noAutofit/>
          </a:bodyPr>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1. Biedrība vai nodibinājums saimniecisko darbību pasākuma ietvaros veic tikai kā papilddarbību, un ieņēmumi no saimnieciskās darbības nepārsniedz 50 procentus no kopējiem pārskata gada ieņēmumiem (kopējā apgrozījuma).</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262626"/>
                </a:solidFill>
                <a:latin typeface="Calibri"/>
              </a:rPr>
              <a:t>Ja sākotnēji biedrībai vai nodibinājumam ieņēmumi no saimnieciskās darbības pārsniedz 50%, tad biedrība vai nodibinājums netiek reģistrēts Pasākuma dalībnieku reģistrā. Taču pastāv iespēja dibināt komersantu – sabiedrību ar ierobežotu atbildību.</a:t>
            </a:r>
            <a:r>
              <a:rPr b="0" i="1" lang="lv-LV" sz="1200" spc="-1" strike="noStrike">
                <a:solidFill>
                  <a:srgbClr val="000000"/>
                </a:solidFill>
                <a:latin typeface="Calibri"/>
              </a:rPr>
              <a:t> Šādā gadījumā biedrība vai nodibinājums  var doties uz  Latvijas Republikas Uzņēmumu reģistru un dibināt jaunu komersantu – sabiedrību ar ierobežotu atbildību. Biedrība vai nodibinājums kļūs par komersanta īpašnieku. Biedrībai vai nodibinājumam Latvijas Republikas Uzņēmumu reģistrā ir jāiesniedz pieteikums, lēmums par dibināšanu, statūti, bankas izziņa vai atzinums par mantisko ieguldījumu, dalībnieku reģistra nodalījums, valdes locekļu piekrišana, valdes paziņojums par juridisko adresi, nekustamā īpašuma īpašnieka piekrišana, kvīts par valsts nodevas apmaksu, kvīts par publikāciju «Latvijas Vēstnesī».</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262626"/>
                </a:solidFill>
                <a:latin typeface="Calibri"/>
              </a:rPr>
              <a:t>Un tad var nāk uz Labklājības ministrijas Pasākuma dalībnieku reģistru un reģistrēties kā komersants – sabiedrība ar ierobežotu atbildību.</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262626"/>
                </a:solidFill>
                <a:latin typeface="Calibri"/>
              </a:rPr>
              <a:t>Var būt gadījums, kad biedrība vai nodibinājums jau ir reģistrēts Pasākuma dalībnieku reģistrā un tad projekta laikā ieņēmumi no saimnieciskās darbības pārsniedz 50%, tad </a:t>
            </a:r>
            <a:r>
              <a:rPr b="0" i="1" lang="lv-LV" sz="1200" spc="-1" strike="noStrike">
                <a:solidFill>
                  <a:srgbClr val="000000"/>
                </a:solidFill>
                <a:latin typeface="Calibri"/>
              </a:rPr>
              <a:t>Šādā gadījumā biedrība vai nodibinājums var doties uz  Latvijas Republikas Uzņēmumu reģistru un dibināt jaunu komersantu – sabiedrību ar ierobežotu atbildību. Biedrība vai nodibinājums kļūs par komersanta īpašnieku. Biedrībai vai nodibinājumam Latvijas Republikas Uzņēmumu reģistrā ir jāiesniedz pieteikums, lēmums par dibināšanu, statūti, bankas izziņa vai atzinums par mantisko ieguldījumu, dalībnieku reģistra nodalījums, valdes locekļu piekrišana, valdes paziņojums par juridisko adresi, nekustamā īpašuma īpašnieka piekrišana, kvīts par valsts nodevas apmaksu, kvīts par publikāciju «Latvijas Vēstnesī». </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Tādā gadījumā biedrībai vai nodibinājumam ir jāsniedz informācija Pasākuma dalībnieku reģistram.</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Pastāv arī vēl viens gadījums</a:t>
            </a:r>
            <a:endParaRPr b="0" lang="en-US" sz="1200" spc="-1" strike="noStrike">
              <a:solidFill>
                <a:srgbClr val="000000"/>
              </a:solidFill>
              <a:latin typeface="Calibri"/>
            </a:endParaRPr>
          </a:p>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biedrības vai nodibinājuma ieņēmumi no saimnieciskās darbības pārsniedz 50 procentus no kopējiem pārskata gada ieņēmumiem (kopējā apgrozījuma), tā dalība pasākumā tiek pārtraukta un tam ir pienākums atmaksāt visu pasākuma ietvaros saņemto finanšu atbalstu.</a:t>
            </a:r>
            <a:endParaRPr b="0" lang="en-US" sz="1200" spc="-1" strike="noStrike">
              <a:solidFill>
                <a:srgbClr val="000000"/>
              </a:solidFill>
              <a:latin typeface="Calibri"/>
            </a:endParaRPr>
          </a:p>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Tādā gadījumā tiek izdarīta atzīme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4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7701BE0-DA80-4A51-987A-BCE014343056}"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901800" y="739800"/>
            <a:ext cx="4932360" cy="3700440"/>
          </a:xfrm>
          <a:prstGeom prst="rect">
            <a:avLst/>
          </a:prstGeom>
          <a:ln w="0">
            <a:noFill/>
          </a:ln>
        </p:spPr>
      </p:sp>
      <p:sp>
        <p:nvSpPr>
          <p:cNvPr id="549"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Esošajai sabiedrībai ar ierobežotu atbildību, akciju sabiedrībai, biedrībai, nodibinājumam </a:t>
            </a:r>
            <a:r>
              <a:rPr b="0" lang="lv-LV" sz="1200" spc="-1" strike="noStrike">
                <a:solidFill>
                  <a:srgbClr val="000000"/>
                </a:solidFill>
                <a:latin typeface="Calibri"/>
              </a:rPr>
              <a:t>ir jānodarbina divi darbinieki uz darba līguma pamata. </a:t>
            </a:r>
            <a:r>
              <a:rPr b="0" i="1" lang="lv-LV" sz="1200" spc="-1" strike="noStrike">
                <a:solidFill>
                  <a:srgbClr val="000000"/>
                </a:solidFill>
                <a:latin typeface="Calibri"/>
              </a:rPr>
              <a:t>Jaundibinātai sabiedrībai ar ierobežotu atbildību, akciju sabiedrībai, biedrībai, nodibinājumam ir </a:t>
            </a:r>
            <a:r>
              <a:rPr b="0" lang="lv-LV" sz="1200" spc="-1" strike="noStrike">
                <a:solidFill>
                  <a:srgbClr val="000000"/>
                </a:solidFill>
                <a:latin typeface="Calibri"/>
              </a:rPr>
              <a:t>jānodarbina viens darbinieks uz darba līguma pamata</a:t>
            </a:r>
            <a:r>
              <a:rPr b="0" i="1" lang="lv-LV"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Tiks pārbaudīta komersanta vai biedrības vai nodibinājuma iesniegtā izziņa par nodarbinātības struktūru).</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404040"/>
                </a:solidFill>
                <a:latin typeface="Calibri"/>
              </a:rPr>
              <a:t>Labklājības ministrijas lēmums atzīt pretendentu par pasākuma dalībnieku vai lēmums neatzīt pretendentu par pasākuma dalībnieku būs administratīvs akts</a:t>
            </a:r>
            <a:endParaRPr b="0" lang="en-US" sz="1200" spc="-1" strike="noStrike">
              <a:solidFill>
                <a:srgbClr val="000000"/>
              </a:solidFill>
              <a:latin typeface="Calibri"/>
            </a:endParaRPr>
          </a:p>
          <a:p>
            <a:pPr indent="0" algn="just">
              <a:spcBef>
                <a:spcPts val="451"/>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404040"/>
                </a:solidFill>
                <a:latin typeface="Calibri"/>
              </a:rPr>
              <a:t>Lēmums tiks pieņemts izvērtējuma rezultātā. Neatbilstības pasākuma dalībnieku pazīmēm gadījumā, tiks pieņemts lēmums neatzīt pretendentu par pasākuma dalībnieku, kā rezultātā pretendents netiks reģistrēts Pasākuma dalībnieku reģistrā, taču pretendentam būs iespēja atkārtoti iesniegt dokumentus.</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5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286A984-7BA4-4797-9B1B-355AADA47EE6}"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01800" y="739800"/>
            <a:ext cx="4932360" cy="3700440"/>
          </a:xfrm>
          <a:prstGeom prst="rect">
            <a:avLst/>
          </a:prstGeom>
          <a:ln w="0">
            <a:noFill/>
          </a:ln>
        </p:spPr>
      </p:sp>
      <p:sp>
        <p:nvSpPr>
          <p:cNvPr id="55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5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65C833F-83B8-4637-837E-917441D7AA4B}"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01800" y="739800"/>
            <a:ext cx="4932360" cy="3700440"/>
          </a:xfrm>
          <a:prstGeom prst="rect">
            <a:avLst/>
          </a:prstGeom>
          <a:ln w="0">
            <a:noFill/>
          </a:ln>
        </p:spPr>
      </p:sp>
      <p:sp>
        <p:nvSpPr>
          <p:cNvPr id="52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BF49E44-346A-4EC6-A183-F780A77BA6E4}"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01800" y="739800"/>
            <a:ext cx="4932360" cy="3700440"/>
          </a:xfrm>
          <a:prstGeom prst="rect">
            <a:avLst/>
          </a:prstGeom>
          <a:ln w="0">
            <a:noFill/>
          </a:ln>
        </p:spPr>
      </p:sp>
      <p:sp>
        <p:nvSpPr>
          <p:cNvPr id="525" name="PlaceHolder 2"/>
          <p:cNvSpPr>
            <a:spLocks noGrp="1"/>
          </p:cNvSpPr>
          <p:nvPr>
            <p:ph type="body"/>
          </p:nvPr>
        </p:nvSpPr>
        <p:spPr>
          <a:xfrm>
            <a:off x="755280" y="4759200"/>
            <a:ext cx="5389560" cy="444024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rojekta ietvaros tiek veidots Labklājības ministrijas Pasākuma dalībnieku reģistrs, </a:t>
            </a:r>
            <a:r>
              <a:rPr b="0" i="1" lang="lv-LV" sz="1200" spc="-1" strike="noStrike">
                <a:solidFill>
                  <a:srgbClr val="000000"/>
                </a:solidFill>
                <a:latin typeface="Calibri"/>
              </a:rPr>
              <a:t>kurā tiks reģistrēti  sociālās uzņēmējdarbības veicēji - komersanti (sabiedrības ar ierobežotu atbildību, akciju sabiedrības, izņemot individuālie komersanti un personālsabiedrības), biedrības un nodibinājumi, kuri atbilst pasākuma dalībnieku pazīmēm.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asākuma dalībnieku reģistrs paredz uzkrāt informāciju par pasākuma dalībniekiem, lai nākotnē nodrošinātu kvalitatīvas un pārredzamas statistikas veidošanu, sociālās ietekmes un biznesa projekta sociālās ietekmes novērtēšanu.</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rojekta īstenošanas laikā par Pasākuma dalībnieku reģistru atbildīgā institūcija būs Labklājības ministrij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asākuma dalībnieku reģistrs nebūs publiski pieejam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Pretendentiem, kuri vēlas saņemt finanšu atbalstu obligāts nosacījums ir vispirms reģistrēties Labklājības ministrijas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Kad pretendents būs reģistrēts Labklājības ministrijas Pasākuma dalībnieku reģistrā, tad Labklājības ministrijas amatpersona izsniegs lēmumu, kas apliecina, ka pretendents atzīts par pasākuma dalībnieku.</a:t>
            </a:r>
            <a:endParaRPr b="0" lang="en-US" sz="1200" spc="-1" strike="noStrike">
              <a:solidFill>
                <a:srgbClr val="000000"/>
              </a:solidFill>
              <a:latin typeface="Calibri"/>
            </a:endParaRPr>
          </a:p>
        </p:txBody>
      </p:sp>
      <p:sp>
        <p:nvSpPr>
          <p:cNvPr id="52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A97CABD-75C6-494A-BA8F-A2D4C14E6ED5}"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01800" y="739800"/>
            <a:ext cx="4932360" cy="3700440"/>
          </a:xfrm>
          <a:prstGeom prst="rect">
            <a:avLst/>
          </a:prstGeom>
          <a:ln w="0">
            <a:noFill/>
          </a:ln>
        </p:spPr>
      </p:sp>
      <p:sp>
        <p:nvSpPr>
          <p:cNvPr id="52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eteikties dalībai pasākumā varēs  pasākuma mērķa grupas – esošās sabiedrības ar ierobežotu atbildību, akciju sabiedrības, biedrības un nodibinājumi – kas reģistrēti Latvijas Republikas Uzņēmumu reģistrā vairāk nekā 12 mēnešu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kā arī jaundibināti pasākuma dalībnieki, tās ir tās pašas sabiedrības ar ierobežotu atbildību, akciju sabiedrības, biedrības un nodibinājumi, tikai atšķirība ir tāda, ka tie pieteikuma iesniegšanas dienā reģistrēti Latvijas Republikas Uzņēmumu reģistrā mazāk nekā 12 mēnešu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Atšķirība no esošajiem uzņēmumiem un jaundibinātiem ir tāda, ka tiem atšķirsies finanšu atbalsta piešķiršanas kārtība par ko nākamajās prezentācijās stāstīs akciju sabiedrība «Attīstības finanšu institūcija Altum», kā arī uz jaundibinātiem nedaudz atšķirsies reģistrācijas kārtība, par ko es sīkāk pastāstīšu prezentācijas gait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pieteikusies reģistrācijai pasākuma dalībnieku reģistrā būs cita juridiskā persona, kas nav pasākuma mērķa grupa vai arī netiks konstatēta pretendenta atbilstība, kādai no pazīmēm, tad tiks pieņemts lēmums neatzīt pretendentu par pasākuma dalībnieku.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9E0D5E2-E59F-43E0-865E-4768D081E55F}"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01800" y="739800"/>
            <a:ext cx="4932360" cy="3700440"/>
          </a:xfrm>
          <a:prstGeom prst="rect">
            <a:avLst/>
          </a:prstGeom>
          <a:ln w="0">
            <a:noFill/>
          </a:ln>
        </p:spPr>
      </p:sp>
      <p:sp>
        <p:nvSpPr>
          <p:cNvPr id="531"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Tiks izvērtēta pamatinformācija par pretendentu</a:t>
            </a:r>
            <a:r>
              <a:rPr b="0" i="1" lang="lv-LV" sz="1200" spc="-1" strike="noStrike">
                <a:solidFill>
                  <a:srgbClr val="000000"/>
                </a:solidFill>
                <a:latin typeface="Calibri"/>
              </a:rPr>
              <a:t> - sākot ar pretendenta juridisko formu - vai pretendents ir sabiedrība ar ierobežotu atbildību, vai akciju sabiedrība, vai biedrība vai nodibinājums, beidzot ar to, ka tiks pārbaudīta informācija, vai pretendentam ar tiesas lēmumu netiek īstenots tiesiskās aizsardzības process un vai pretendents nav likvidēts. Vienlaikus, konstatējot vai pretendents ir vai nav jaundibināts pasākuma dalībniek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bklājības ministrijas amatpersona pamatdatus par pretendentu pārbauda no Lursoft.</a:t>
            </a:r>
            <a:endParaRPr b="0" lang="en-US" sz="1200" spc="-1" strike="noStrike">
              <a:solidFill>
                <a:srgbClr val="000000"/>
              </a:solidFill>
              <a:latin typeface="Calibri"/>
            </a:endParaRPr>
          </a:p>
        </p:txBody>
      </p:sp>
      <p:sp>
        <p:nvSpPr>
          <p:cNvPr id="53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E2534CF-D3BE-4EA7-9DAD-854AA9C3527B}"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901800" y="739800"/>
            <a:ext cx="4932360" cy="3700440"/>
          </a:xfrm>
          <a:prstGeom prst="rect">
            <a:avLst/>
          </a:prstGeom>
          <a:ln w="0">
            <a:noFill/>
          </a:ln>
        </p:spPr>
      </p:sp>
      <p:sp>
        <p:nvSpPr>
          <p:cNvPr id="53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bklājības ministrijas tīmekļa vietnē tiks publicēta pieteikuma veidlapa un iesniedzamie dokumenti.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eteikties ALTUM īstenotajam finanšu atbalstam projekta ietvaros būs iespējams tikai tiem komersantiem, biedrībām un nodibinājumiem, kuri pieteikušies un reģistrēti Labklājības ministrijas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i piedalītos pasākumā, dokumentus varēs iesniegt  klātienē Labklājības ministrijā, Rīgā, Skolas ielā 28 vai arī nosūtīt  pa pastu vai parakstīt ar drošu elektronisko parakstu un laika zīmogu.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Dokumentu izskatīšana un pretendentu izvērtēšana notiks 1 mēneša laikā no dokumentu saņemšanas brīž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Vēlams, lai pretendenti, kuri iesniedz dokumentus Labklājības ministrijā būtu sagatavojuši biznesa plānu, ko iesniegt AS «Attīstības finanšu institūcija Altum».</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pretendents būs jaundibināts pasākuma dalībnieks, tad Pasākuma dalībnieku reģistrā tiks izdarīta papildus atzīme, ka pretendents ir jaundibināts. Turklāt jaundibinātam pasākuma dalībniekam netiek vērtētas pilnīgi visas pasākuma dalībnieku pazīmes, piemēram, jaundibinātam pasākuma dalībniekam netiek vērtēta saimnieciskā darbība.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3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616BEE4-E2C3-46C4-933A-844CE66142DC}"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01800" y="739800"/>
            <a:ext cx="4932360" cy="3700440"/>
          </a:xfrm>
          <a:prstGeom prst="rect">
            <a:avLst/>
          </a:prstGeom>
          <a:ln w="0">
            <a:noFill/>
          </a:ln>
        </p:spPr>
      </p:sp>
      <p:sp>
        <p:nvSpPr>
          <p:cNvPr id="537"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Svarīgākas pazīmes, kas tiks ņemtas par pamatu pretendenta ierakstīšanai Labklājības ministrijas Pasākuma dalībnieku reģistrā un kurām pasākuma dalībniekam jāatbilst visu laiku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tatūtos ir noteikts sociālais mērķis un tam ir pozitīva sociāla ietekme;</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Obligāts nosacījums ir tāds, ka tieši statūtos ir jābūt definētam sociālajam mērķim gan sabiedrībām ar ierobežotu atbildību, gan akciju sabiedrībām, gan biedrībām un nodibinājumie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Mērķis var izpausties kā:</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niegt labumu noteiktām sabiedrības grupām jeb mērķgrupā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veikt citas sabiedrībai nozīmīgas aktivitātes (jeb sabiedriskā labuma darbības), kas rada ilgstošu pozitīvu sociālo ietekmi.</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Organizācijas sociālajam mērķim ir jābūt saprotamam un konkrēti vērstam uz mērķgrupu vai kādu citu nozīmīgu problēmu. Ir skaidri jāsaprot – kādu tieši sociālo problēmu organizācija risina.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īkāk tieši par sociālo mērķi stāstīs nākamajā prezentācijā.</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2) peļņa tiek izmantota statūtos noteiktā sociālā mērķa sasniegšanai; Sīkāk par peļņas reinvestēšanu es pastāstīšu turpmāk.</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3) tiek nodarbināti algoti darbinieki.</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Esošajam uzņēmumam ir jānodarbina vismaz 2 darbinieki uz darba līguma pamata, jaundibinātam 1 darbinieks uz darba līguma pamata.</a:t>
            </a:r>
            <a:endParaRPr b="0" lang="en-US" sz="1200" spc="-1" strike="noStrike">
              <a:solidFill>
                <a:srgbClr val="000000"/>
              </a:solidFill>
              <a:latin typeface="Calibri"/>
            </a:endParaRPr>
          </a:p>
        </p:txBody>
      </p:sp>
      <p:sp>
        <p:nvSpPr>
          <p:cNvPr id="53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523DA55-E067-4E40-AAD5-5A6AAD562339}"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01800" y="741240"/>
            <a:ext cx="4932360" cy="3700440"/>
          </a:xfrm>
          <a:prstGeom prst="rect">
            <a:avLst/>
          </a:prstGeom>
          <a:ln w="0">
            <a:noFill/>
          </a:ln>
        </p:spPr>
      </p:sp>
      <p:sp>
        <p:nvSpPr>
          <p:cNvPr id="54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200" spc="-1" strike="noStrike">
                <a:solidFill>
                  <a:srgbClr val="000000"/>
                </a:solidFill>
                <a:latin typeface="Calibri"/>
              </a:rPr>
              <a:t>Mērķis – izvērtēt saimniecisko darbību </a:t>
            </a:r>
            <a:r>
              <a:rPr b="0" lang="lv-LV"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Šī pazīme ir peļņas reinvestēšana sākotnēji pretendentie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Šī pazīme netiek vērtēta jaundibinātai sabiedrībai ar ierobežotu atbildību, jaundibinātai akciju sabiedrībai, jaundibinātai biedrībai, jaundibinātam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aimnieciskā darbība atšķirīgi tiek vērtēta komersantiem – sabiedrībai ar ierobežotu atbildību, akciju sabiedrībai un biedrībai, un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rmie 3.punkti slaidā attiecas tikai uz komersantiem un pēdējais 4.punkts slaidā attiecas tikai uz biedrībām un nodibinājumiem.</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1. Komersantam, (izņemot jaundibinātu), iepriekšējā gadā ir bijusi peļņa un 50% no peļņas atlikuma ir novirzīti sociālā mērķa sasniegšanai vai iepriekšējā gadā nav bijusi peļņa, taču ir rakstiska iekšējā politika par peļņas sadales aizliegumu (paredzot, ka peļņa netiek sadalīta starp komersanta dalībniekiem, bet tiks novirzīta sociālā mērķa sasniegšanai.  </a:t>
            </a:r>
            <a:r>
              <a:rPr b="0" i="1" lang="lv-LV" sz="1200" spc="-1" strike="noStrike">
                <a:solidFill>
                  <a:srgbClr val="000000"/>
                </a:solidFill>
                <a:latin typeface="Calibri"/>
              </a:rPr>
              <a:t>(pārbaudīta tiek pretendenta iesniegtā iekšējā dokumentācij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2.Vismaz vienam no komersanta (izņemot jaundibinātu) izpildinstitūcijas locekļiem vai vadības pārstāvim ir viena gada pieredze ar sociālās ietekmes saistītu procesu vadīšanu (</a:t>
            </a:r>
            <a:r>
              <a:rPr b="0" i="1" lang="lv-LV" sz="1200" spc="-1" strike="noStrike">
                <a:solidFill>
                  <a:srgbClr val="000000"/>
                </a:solidFill>
                <a:latin typeface="Calibri"/>
              </a:rPr>
              <a:t>pārbaudīts tiks izpildinstitīcijas locekļa vai vadības pārstāvja CV  un pieredzes aprakst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3. Biedrībai vai nodibinājumam, izņemot jaundibinātu, ieņēmumi no saimnieciskās darbības ir vismaz 10 % un nepārsniedz 50%. </a:t>
            </a:r>
            <a:r>
              <a:rPr b="0" i="1" lang="lv-LV" sz="1200" spc="-1" strike="noStrike">
                <a:solidFill>
                  <a:srgbClr val="000000"/>
                </a:solidFill>
                <a:latin typeface="Calibri"/>
              </a:rPr>
              <a:t>(pārbaudīts tiek iepriekšējā gada biedrību un nodibinājumu gada pārskat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Vēlāk, kad pretendents tiks ierakstīts pasākuma dalībnieku reģistrā, tad visa peļņa būs jāreinvestē sociālam mērķim.</a:t>
            </a:r>
            <a:endParaRPr b="0" lang="en-US" sz="1200" spc="-1" strike="noStrike">
              <a:solidFill>
                <a:srgbClr val="000000"/>
              </a:solidFill>
              <a:latin typeface="Calibri"/>
            </a:endParaRPr>
          </a:p>
        </p:txBody>
      </p:sp>
      <p:sp>
        <p:nvSpPr>
          <p:cNvPr id="54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2E60D44-7B8C-4DAD-A0DF-47AE299883AC}"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901800" y="739800"/>
            <a:ext cx="4932360" cy="3700440"/>
          </a:xfrm>
          <a:prstGeom prst="rect">
            <a:avLst/>
          </a:prstGeom>
          <a:ln w="0">
            <a:noFill/>
          </a:ln>
        </p:spPr>
      </p:sp>
      <p:sp>
        <p:nvSpPr>
          <p:cNvPr id="543"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Mērķis – izvērtēt saimniecisko darbību biedrībai un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Biedrībai un nodibinājumam saimnieciskā darbība tiek aprēķināta pēc formulas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u="sng">
                <a:solidFill>
                  <a:srgbClr val="000000"/>
                </a:solidFill>
                <a:uFillTx/>
                <a:latin typeface="Calibri"/>
              </a:rPr>
              <a:t>Ieņēmumi no saimnieciskās darbības</a:t>
            </a:r>
            <a:r>
              <a:rPr b="0" i="1" lang="lv-LV" sz="1200" spc="-1" strike="noStrike">
                <a:solidFill>
                  <a:srgbClr val="000000"/>
                </a:solidFill>
                <a:latin typeface="Calibri"/>
              </a:rPr>
              <a:t>       =        saimnieciskā darbība procentos</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Ieņēmumi kopā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4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222F2CD-26EC-4229-97CB-0C3D77A8B947}"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70D8A6-C0EC-430C-BC91-E959192DB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04368-C254-4E69-A1F5-F9972B7AF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66B197FF-9A9E-4B9F-9F46-DBE987E280C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9F8EA1AB-6B16-48D2-AABF-A9EBC554239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DE139720-3760-43A0-AE02-53A59AA783D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EFC7BC87-2061-4F13-A59E-870EC69E62D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2394F559-0056-42DD-A504-D4D84DF56EF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A8FA4958-6CF9-43F6-888B-A2988084ACC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84F62BAC-AF0F-44A8-8BD7-592E6A9BA82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CF9927D6-96C3-4DF1-A1DD-E75C3D70AAF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8E033073-F395-4D13-A006-DEC7B1F9F8B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CB652F-38D5-487A-A935-B8B8993859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B3935E-2B23-46AB-8583-8F25F0E18E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B47E69FC-27A0-4A30-9F71-A0D9388D226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B94CC25-534A-4239-BEFE-35AD5FDDA03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0"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6783E60-792C-45B7-BE8F-9C62F2F6FFF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2"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3"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E999155-6545-483C-976A-1D384701E3B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A10A877-6C8B-4602-9E01-28914C4B826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1634DEB-9316-486A-98BB-40A834B8EE8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8"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4AED08F-F972-4B9F-8FD7-A93FD9B8123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3"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5AF59C4-C0C9-4FD5-B2A8-AAE7ADC05FD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7"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4B6CA61-7D0C-4BEA-AD75-F75307358B1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9"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0"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46EFE26-0B85-42F8-8254-AB402C71699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5"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2A952F7C-96A7-4D4F-A43E-C11713C74A8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37"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8"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9"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0"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1"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2"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49B135C7-51B6-4986-B60A-E6457820A1D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3A1D4-7995-4AA1-BD0D-8C9DB8BD9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987EE4-193C-490B-947F-D61796F8B3E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82E96FEA-E453-4837-A46D-823C1AE09FE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5F043196-BFEE-4712-83CD-BE463A7E238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E02747C6-D997-4A48-AE05-BB13EA26D0B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D317FC54-4F50-4726-91A4-5E8A5BAD68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AAF93-4101-4D39-AC3F-0D09BA26C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98C7F49C-3219-4F54-A3E3-FF71DF263AD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4022FD2B-6E77-4873-A8E7-D0182E90A8D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D7DE676D-8561-4A76-8A8B-1F3897C9D5A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EBB68993-128B-4508-A53E-E51C81686CE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CA2596EF-FFCF-44DF-9540-F1382C34B7D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47F9DAA7-077E-4D46-8C3F-638B77E2DC8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89F4AE52-4E9B-4DA3-B981-945C04AEEAD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D9CB5CD-5765-4F6A-BE43-20A76F948A3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9A5818B4-8E2E-450D-B4FA-458CEFCCAAA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BE17F849-A94F-49D0-B27B-FD9BCAF826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09FC9-68D4-41FE-810C-548D9A1C2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2DA99496-23B9-420C-8789-39887C4B7A3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F473E9D3-7862-4E5F-98F5-0AD7C1810FB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91A90D47-3670-4803-973E-037814CEF4B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E1BF5D0A-F25F-46BE-A411-13ADEFB3630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8F28E69A-209F-4F67-B7C6-E471A6EA285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C4AD3BC4-BF39-4A33-BFC9-313F2C4D5E8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409659FD-C7C6-4F71-AA0D-059E773835F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C8B6E84D-BA7D-4463-8928-4DB00F180A3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AB33537A-FEEC-4EE3-A04A-A6FE457E493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DC2D380-72B6-40C7-B617-D3F9E79A1F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91EF4-1E24-4760-8CA2-A06E7E0BE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77DC777F-7103-431E-AFB6-A953C594CAA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C2C4CC68-E63E-4DAE-9FD2-2D6F02F1843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5C22486C-3664-4D9E-AD50-ABB93067162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F1EFE746-F175-4724-B5F2-AFA2632C79E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93640C9B-9AB3-42AE-B75A-36BA86F07DC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DC3E8A04-422D-4873-BEC4-FA54A2B8A51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837E8FF7-5ACB-4833-A4A0-CF9E8D3B020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CE0B2EA2-1667-4AB5-9D2B-77ED14624FC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6907AA53-8D4B-4584-8ED7-5E65B6D79E5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F3706886-D9C1-4CF7-9241-8CAAA2089F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5B2D7-5139-4F3E-A7B9-EEFFAFCB6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8D23ABB0-2D4A-4EA0-B7D8-F426187AB82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FE2114A-D16B-4477-9C96-5C3359D5F7A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A98161C5-085B-44FF-A85D-2611DDDFC1D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C5BAB0B7-3E7A-4D64-BBF2-0419F5973EE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BB112A4F-B159-4701-B476-91E60BE84E4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D4BF1E38-AA3C-43AF-B29E-F36A89EA9DF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DD765C6B-FE88-4946-A925-CE3B2C57F0B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3882D43B-59C7-4B3D-9367-B27F1E5B69C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B639117B-D0CF-4A14-93A5-7201EBAFBAC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125B6A06-6CB4-4AC1-BA11-8B5D2B920E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5A4B7-D2CB-4CD8-9063-E52D3E2D6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96C96710-0018-47BA-99CD-463EE9113DF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D623C1ED-44C3-40DD-88BC-6AA101D3A37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0862A15D-7454-47C9-8749-EF5FE899AE8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450C34C-02B9-41DB-A9BB-C7299E04C9A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1A09039E-A082-40CB-845C-105931C82A8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30007758-20F3-48F9-B094-AA5E4C21A85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8465683E-B0CE-4682-A1BA-83475972029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0E533E30-9BC0-4FD6-BC22-7F37D8CE0A5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5D4F044F-4CD2-4C63-8043-B0CCCFE266F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2BA8CD53-ED49-4421-8DCD-5155DCEF92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2FBB8-CF12-4785-BC57-719B3EFA9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1818D076-E2B2-4D09-8124-88103EC7383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1EC972E8-F38D-4002-AEBF-34BB64B0AC9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43714A0D-EB27-4CEC-BA0D-C2C4AD423FE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DE490E96-D5F1-49B0-9510-C09E867FF04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D81D1165-924C-4950-9364-554B9A1A736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97A789BD-A180-4356-8D7B-62215C1C4B5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F3DF8B03-F0AF-42D9-8DA0-9D8BE2F8026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6122CBC5-832A-44D6-AB4C-941BDAB8C4B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5FD04946-67CD-4F9C-85B4-1343F3B4311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0AEF4C49-EDDC-4DD3-AA08-B6EEFD9F48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AA382-DA01-4DC9-B8B1-B83793FBD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D753F5AE-67AA-4EBC-955E-166F934435F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2A473094-26FE-442B-970C-5D4AE7AD0D4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61A9436B-BD2E-44FC-9646-55F46BC5D90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8EA30270-CB98-4453-BC56-B43B381378E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11484381-8549-41B1-9D26-AF6606223D3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11991873-247D-42BC-B7C8-D766CB01E33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11FA002D-A718-4FE7-836D-126A31372E5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72EDEFE-E80D-4FE9-AE05-DAEC386967F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D23BDA0F-6001-404A-8617-A98B7BE9406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DF939B81-0345-4341-A908-6C46FD16B5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99B9C27-9F18-45CA-9672-845EFAF95E2F}"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FE4C24C-0435-4529-A6BB-4DCDB8798AD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03"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404" name="PlaceHolder 3"/>
          <p:cNvSpPr>
            <a:spLocks noGrp="1"/>
          </p:cNvSpPr>
          <p:nvPr>
            <p:ph type="dt" idx="1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4079CE2-A711-45D1-80AA-8E5A74C1A838}" type="datetime">
              <a:rPr b="0" lang="lv-LV"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405" name="PlaceHolder 4"/>
          <p:cNvSpPr>
            <a:spLocks noGrp="1"/>
          </p:cNvSpPr>
          <p:nvPr>
            <p:ph type="ftr" idx="1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06" name="PlaceHolder 5"/>
          <p:cNvSpPr>
            <a:spLocks noGrp="1"/>
          </p:cNvSpPr>
          <p:nvPr>
            <p:ph type="sldNum" idx="1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CC1A874-2646-4596-95A7-60F8B2DE39C7}" type="slidenum">
              <a:rPr b="0" lang="lv-LV"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501FB68-0095-4FC7-B9B2-1AB210174E7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D5C07B0-E459-4063-9E5B-B34D3368616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30EA0D4-E322-4D5F-90E8-08BFBD3512D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434B717-9E55-4929-84D7-F15FAE5DEA0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4D8F72A-C539-4834-B95A-4C0FFAD0FC2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C5B6E54-E930-45A6-8E39-1B7A719A610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0D525DD-2664-4E8A-903D-0EE3044BF97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66880" y="2963880"/>
            <a:ext cx="7772400" cy="1874880"/>
          </a:xfrm>
          <a:prstGeom prst="rect">
            <a:avLst/>
          </a:prstGeom>
          <a:noFill/>
          <a:ln w="0">
            <a:noFill/>
          </a:ln>
        </p:spPr>
        <p:txBody>
          <a:bodyPr lIns="93960" rIns="93960" tIns="46800" bIns="46800" anchor="t">
            <a:noAutofit/>
          </a:bodyPr>
          <a:p>
            <a:pPr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100" spc="-1" strike="noStrike">
                <a:solidFill>
                  <a:srgbClr val="404040"/>
                </a:solidFill>
                <a:latin typeface="Verdana"/>
                <a:ea typeface="Verdana"/>
              </a:rPr>
              <a:t>Eiropas Sociālā fonda projekta</a:t>
            </a:r>
            <a:br>
              <a:rPr sz="2100"/>
            </a:br>
            <a:r>
              <a:rPr b="1" lang="lv-LV" sz="2100" spc="-1" strike="noStrike">
                <a:solidFill>
                  <a:srgbClr val="404040"/>
                </a:solidFill>
                <a:latin typeface="Verdana"/>
                <a:ea typeface="Verdana"/>
              </a:rPr>
              <a:t>«Atbalsts sociālajai uzņēmējdarbībai»</a:t>
            </a:r>
            <a:br>
              <a:rPr sz="2100"/>
            </a:br>
            <a:r>
              <a:rPr b="1" lang="lv-LV" sz="1300" spc="-1" strike="noStrike">
                <a:solidFill>
                  <a:srgbClr val="404040"/>
                </a:solidFill>
                <a:latin typeface="Verdana"/>
                <a:ea typeface="Verdana"/>
              </a:rPr>
              <a:t>vienošanās Nr. 9.1.1.3/15/I/001</a:t>
            </a:r>
            <a:br>
              <a:rPr sz="1300"/>
            </a:br>
            <a:br>
              <a:rPr sz="1300"/>
            </a:br>
            <a:br>
              <a:rPr sz="1800"/>
            </a:br>
            <a:br>
              <a:rPr sz="2100"/>
            </a:br>
            <a:br>
              <a:rPr sz="2100"/>
            </a:br>
            <a:br>
              <a:rPr sz="1900"/>
            </a:br>
            <a:br>
              <a:rPr sz="1900"/>
            </a:br>
            <a:br>
              <a:rPr sz="1400"/>
            </a:br>
            <a:endParaRPr b="0" lang="en-US" sz="1300" spc="-1" strike="noStrike">
              <a:solidFill>
                <a:srgbClr val="000000"/>
              </a:solidFill>
              <a:latin typeface="Times New Roman"/>
            </a:endParaRPr>
          </a:p>
        </p:txBody>
      </p:sp>
      <p:sp>
        <p:nvSpPr>
          <p:cNvPr id="451" name="PlaceHolder 2"/>
          <p:cNvSpPr>
            <a:spLocks noGrp="1"/>
          </p:cNvSpPr>
          <p:nvPr>
            <p:ph/>
          </p:nvPr>
        </p:nvSpPr>
        <p:spPr>
          <a:xfrm>
            <a:off x="1090080" y="6040080"/>
            <a:ext cx="7899480" cy="639720"/>
          </a:xfrm>
          <a:prstGeom prst="rect">
            <a:avLst/>
          </a:prstGeom>
          <a:noFill/>
          <a:ln w="0">
            <a:noFill/>
          </a:ln>
        </p:spPr>
        <p:txBody>
          <a:bodyPr lIns="93960" rIns="93960" tIns="46800" bIns="46800" anchor="t">
            <a:normAutofit/>
          </a:bodyPr>
          <a:p>
            <a:pPr indent="0" algn="r">
              <a:lnSpc>
                <a:spcPct val="8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500" spc="-1" strike="noStrike">
              <a:solidFill>
                <a:srgbClr val="000000"/>
              </a:solidFill>
              <a:latin typeface="Times New Roman"/>
            </a:endParaRPr>
          </a:p>
          <a:p>
            <a:pPr indent="0" algn="r">
              <a:lnSpc>
                <a:spcPct val="8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100"/>
            </a:br>
            <a:endParaRPr b="0" lang="en-US" sz="1100" spc="-1" strike="noStrike">
              <a:solidFill>
                <a:srgbClr val="000000"/>
              </a:solidFill>
              <a:latin typeface="Times New Roman"/>
            </a:endParaRPr>
          </a:p>
        </p:txBody>
      </p:sp>
      <p:pic>
        <p:nvPicPr>
          <p:cNvPr id="452" name="Picture 6" descr=""/>
          <p:cNvPicPr/>
          <p:nvPr/>
        </p:nvPicPr>
        <p:blipFill>
          <a:blip r:embed="rId1"/>
          <a:stretch/>
        </p:blipFill>
        <p:spPr>
          <a:xfrm>
            <a:off x="2352600" y="4897440"/>
            <a:ext cx="5246640" cy="1084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459080" y="717120"/>
            <a:ext cx="6835680" cy="7002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404040"/>
                </a:solidFill>
                <a:latin typeface="Verdana"/>
                <a:ea typeface="Verdana"/>
              </a:rPr>
              <a:t>Ja pasākuma laikā biedrības vai </a:t>
            </a:r>
            <a:br>
              <a:rPr sz="2000"/>
            </a:br>
            <a:r>
              <a:rPr b="1" lang="lv-LV" sz="2000" spc="-1" strike="noStrike">
                <a:solidFill>
                  <a:srgbClr val="404040"/>
                </a:solidFill>
                <a:latin typeface="Verdana"/>
                <a:ea typeface="Verdana"/>
              </a:rPr>
              <a:t>nodibinājuma ieņēmumi pārsniedz 50%</a:t>
            </a:r>
            <a:br>
              <a:rPr sz="2000"/>
            </a:br>
            <a:endParaRPr b="0" lang="en-US" sz="2000" spc="-1" strike="noStrike">
              <a:solidFill>
                <a:srgbClr val="000000"/>
              </a:solidFill>
              <a:latin typeface="Times New Roman"/>
            </a:endParaRPr>
          </a:p>
        </p:txBody>
      </p:sp>
      <p:sp>
        <p:nvSpPr>
          <p:cNvPr id="505" name=""/>
          <p:cNvSpPr txBox="1"/>
          <p:nvPr/>
        </p:nvSpPr>
        <p:spPr>
          <a:xfrm>
            <a:off x="140760" y="1790280"/>
            <a:ext cx="8875800" cy="4838760"/>
          </a:xfrm>
          <a:prstGeom prst="rect">
            <a:avLst/>
          </a:prstGeom>
          <a:noFill/>
          <a:ln w="0">
            <a:noFill/>
          </a:ln>
        </p:spPr>
        <p:txBody>
          <a:bodyPr lIns="93960" rIns="93960" tIns="46800" bIns="46800" anchor="t">
            <a:normAutofit/>
          </a:bodyPr>
          <a:p>
            <a:pPr marL="343080" indent="-343080" algn="just">
              <a:lnSpc>
                <a:spcPct val="9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Biedrība vai nodibinājums saimniecisko darbību pasākuma ietvaros veic tikai kā papilddarbību, un ieņēmumi no saimnieciskās darbības nepārsniedz 50 procentus no kopējiem pārskata gada ieņēmumiem (kopējā apgrozījuma)</a:t>
            </a:r>
            <a:endParaRPr b="0" lang="en-US" sz="1900" spc="-1" strike="noStrike">
              <a:solidFill>
                <a:srgbClr val="000000"/>
              </a:solidFill>
              <a:latin typeface="Times New Roman"/>
            </a:endParaRPr>
          </a:p>
          <a:p>
            <a:pPr marL="343080" indent="-343080" algn="just">
              <a:lnSpc>
                <a:spcPct val="9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 biedrības vai nodibinājuma ieņēmumi no saimnieciskās darbības var pārsniegt 50 procentus no kopējiem pārskata gada ieņēmumiem (kopējā apgrozījuma), biedrība vai nodibinājums, lai turpinātu dalību pasākumā, ir tiesīgs dibināt komercsabiedrību, nododot tai visas pasākuma ietvaros uzņemtās saistības un pienākumus</a:t>
            </a:r>
            <a:endParaRPr b="0" lang="en-US" sz="1900" spc="-1" strike="noStrike">
              <a:solidFill>
                <a:srgbClr val="000000"/>
              </a:solidFill>
              <a:latin typeface="Times New Roman"/>
            </a:endParaRPr>
          </a:p>
          <a:p>
            <a:pPr marL="343080" indent="-343080" algn="just">
              <a:lnSpc>
                <a:spcPct val="9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 biedrības vai nodibinājuma ieņēmumi no saimnieciskās darbības pārsniedz 50 procentus no kopējiem pārskata gada ieņēmumiem (kopējā apgrozījuma), tā dalība pasākumā tiek pārtraukta un tam ir pienākums atmaksāt visu pasākuma ietvaros saņemto finanšu atbalstu</a:t>
            </a:r>
            <a:endParaRPr b="0" lang="en-US" sz="1900" spc="-1" strike="noStrike">
              <a:solidFill>
                <a:srgbClr val="000000"/>
              </a:solidFill>
              <a:latin typeface="Times New Roman"/>
            </a:endParaRPr>
          </a:p>
          <a:p>
            <a:pPr marL="343080" indent="-343080" algn="just">
              <a:lnSpc>
                <a:spcPct val="9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50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29C72C5-2E1C-428F-B74B-AE6E6BBEA26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9" name="Picture 8" descr=""/>
          <p:cNvPicPr/>
          <p:nvPr/>
        </p:nvPicPr>
        <p:blipFill>
          <a:blip r:embed="rId1"/>
          <a:stretch/>
        </p:blipFill>
        <p:spPr>
          <a:xfrm>
            <a:off x="7910640" y="147600"/>
            <a:ext cx="998280" cy="127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793520" y="726840"/>
            <a:ext cx="6421320" cy="103644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100" spc="-1" strike="noStrike">
                <a:solidFill>
                  <a:srgbClr val="404040"/>
                </a:solidFill>
                <a:latin typeface="Verdana"/>
                <a:ea typeface="Verdana"/>
              </a:rPr>
              <a:t>Reģistrācijai nepieciešamā informācija </a:t>
            </a:r>
            <a:br>
              <a:rPr sz="2100"/>
            </a:br>
            <a:r>
              <a:rPr b="1" lang="lv-LV" sz="2100" spc="-1" strike="noStrike">
                <a:solidFill>
                  <a:srgbClr val="404040"/>
                </a:solidFill>
                <a:latin typeface="Verdana"/>
                <a:ea typeface="Verdana"/>
              </a:rPr>
              <a:t>par </a:t>
            </a:r>
            <a:r>
              <a:rPr b="1" lang="lv-LV" sz="2200" spc="-1" strike="noStrike">
                <a:solidFill>
                  <a:srgbClr val="404040"/>
                </a:solidFill>
                <a:latin typeface="Verdana"/>
                <a:ea typeface="Verdana"/>
              </a:rPr>
              <a:t>algotiem</a:t>
            </a:r>
            <a:r>
              <a:rPr b="1" i="1" lang="lv-LV" sz="2200" spc="-1" strike="noStrike">
                <a:solidFill>
                  <a:srgbClr val="404040"/>
                </a:solidFill>
                <a:latin typeface="Verdana"/>
                <a:ea typeface="Verdana"/>
              </a:rPr>
              <a:t> </a:t>
            </a:r>
            <a:r>
              <a:rPr b="1" lang="lv-LV" sz="2100" spc="-1" strike="noStrike">
                <a:solidFill>
                  <a:srgbClr val="404040"/>
                </a:solidFill>
                <a:latin typeface="Verdana"/>
                <a:ea typeface="Verdana"/>
              </a:rPr>
              <a:t>darbiniekiem</a:t>
            </a:r>
            <a:br>
              <a:rPr sz="2100"/>
            </a:br>
            <a:br>
              <a:rPr sz="2200"/>
            </a:br>
            <a:endParaRPr b="0" lang="en-US" sz="2100" spc="-1" strike="noStrike">
              <a:solidFill>
                <a:srgbClr val="000000"/>
              </a:solidFill>
              <a:latin typeface="Times New Roman"/>
            </a:endParaRPr>
          </a:p>
        </p:txBody>
      </p:sp>
      <p:sp>
        <p:nvSpPr>
          <p:cNvPr id="511" name=""/>
          <p:cNvSpPr txBox="1"/>
          <p:nvPr/>
        </p:nvSpPr>
        <p:spPr>
          <a:xfrm>
            <a:off x="352440" y="1969920"/>
            <a:ext cx="8291520" cy="3453120"/>
          </a:xfrm>
          <a:prstGeom prst="rect">
            <a:avLst/>
          </a:prstGeom>
          <a:noFill/>
          <a:ln w="0">
            <a:noFill/>
          </a:ln>
        </p:spPr>
        <p:txBody>
          <a:bodyPr lIns="93960" rIns="93960" tIns="46800" bIns="46800" anchor="t">
            <a:normAutofit/>
          </a:bodyPr>
          <a:p>
            <a:pPr lvl="1" marL="762120" indent="-292320" algn="just">
              <a:lnSpc>
                <a:spcPct val="100000"/>
              </a:lnSpc>
              <a:spcBef>
                <a:spcPts val="451"/>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Pretendents uz darba līguma pamata nodarbina vismaz divus darbiniekus</a:t>
            </a:r>
            <a:endParaRPr b="0" lang="en-US" sz="1800" spc="-1" strike="noStrike">
              <a:solidFill>
                <a:srgbClr val="000000"/>
              </a:solidFill>
              <a:latin typeface="Times New Roman"/>
            </a:endParaRPr>
          </a:p>
        </p:txBody>
      </p:sp>
      <p:sp>
        <p:nvSpPr>
          <p:cNvPr id="512" name="PlaceHolder 2"/>
          <p:cNvSpPr>
            <a:spLocks noGrp="1"/>
          </p:cNvSpPr>
          <p:nvPr>
            <p:ph/>
          </p:nvPr>
        </p:nvSpPr>
        <p:spPr>
          <a:xfrm>
            <a:off x="66600" y="2976120"/>
            <a:ext cx="7405920" cy="3336840"/>
          </a:xfrm>
          <a:prstGeom prst="rect">
            <a:avLst/>
          </a:prstGeom>
          <a:noFill/>
          <a:ln w="0">
            <a:noFill/>
          </a:ln>
        </p:spPr>
        <p:txBody>
          <a:bodyPr lIns="93960" rIns="93960" tIns="46800" bIns="46800" anchor="t">
            <a:normAutofit/>
          </a:bodyPr>
          <a:p>
            <a:pPr lvl="1" marL="1104840" indent="-342720" algn="just">
              <a:lnSpc>
                <a:spcPct val="100000"/>
              </a:lnSpc>
              <a:spcBef>
                <a:spcPts val="451"/>
              </a:spcBef>
              <a:buClr>
                <a:srgbClr val="40404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rPr>
              <a:t>Pretendents, kas pieteikuma iesniegšanas dienā reģistrēts Latvijas Republikas Uzņēmumu reģistrā mazāk nekā 12 mēnešus (jaundibināts), uz darba līguma pamata nodarbina vismaz vienu darbinieku</a:t>
            </a:r>
            <a:endParaRPr b="0" lang="en-US" sz="1800" spc="-1" strike="noStrike">
              <a:solidFill>
                <a:srgbClr val="000000"/>
              </a:solidFill>
              <a:latin typeface="Times New Roman"/>
            </a:endParaRPr>
          </a:p>
          <a:p>
            <a:pPr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p:txBody>
      </p:sp>
      <p:sp>
        <p:nvSpPr>
          <p:cNvPr id="51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1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E47026F-E152-4B87-B6AB-56CCB6BA234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15" name="Picture 6" descr="Attēlu rezultāti vaicājumam “tiek nodarbināti darbinieki multene”"/>
          <p:cNvPicPr/>
          <p:nvPr/>
        </p:nvPicPr>
        <p:blipFill>
          <a:blip r:embed="rId1"/>
          <a:stretch/>
        </p:blipFill>
        <p:spPr>
          <a:xfrm>
            <a:off x="3770280" y="4645080"/>
            <a:ext cx="1703520" cy="1177920"/>
          </a:xfrm>
          <a:prstGeom prst="rect">
            <a:avLst/>
          </a:prstGeom>
          <a:ln w="0">
            <a:noFill/>
          </a:ln>
        </p:spPr>
      </p:pic>
      <p:pic>
        <p:nvPicPr>
          <p:cNvPr id="516" name="Picture 7" descr=""/>
          <p:cNvPicPr/>
          <p:nvPr/>
        </p:nvPicPr>
        <p:blipFill>
          <a:blip r:embed="rId2"/>
          <a:stretch/>
        </p:blipFill>
        <p:spPr>
          <a:xfrm>
            <a:off x="8145360" y="482760"/>
            <a:ext cx="998640" cy="1269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366480" y="3225600"/>
            <a:ext cx="8289720" cy="2508120"/>
          </a:xfrm>
          <a:prstGeom prst="rect">
            <a:avLst/>
          </a:prstGeom>
          <a:noFill/>
          <a:ln w="0">
            <a:noFill/>
          </a:ln>
        </p:spPr>
        <p:txBody>
          <a:bodyPr lIns="93960" rIns="93960" tIns="46800" bIns="46800" anchor="t">
            <a:normAutofit/>
          </a:bodyPr>
          <a:p>
            <a:pPr indent="0" algn="ctr">
              <a:lnSpc>
                <a:spcPct val="10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lv-LV" sz="3200" spc="-1" strike="noStrike">
                <a:solidFill>
                  <a:srgbClr val="404040"/>
                </a:solidFill>
                <a:latin typeface="Verdana"/>
                <a:ea typeface="Verdana"/>
              </a:rPr>
              <a:t>Paldies!</a:t>
            </a:r>
            <a:endParaRPr b="0" lang="en-US" sz="32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lv-LV" sz="1400" spc="-1" strike="noStrike">
                <a:solidFill>
                  <a:srgbClr val="000000"/>
                </a:solidFill>
                <a:latin typeface="Verdana"/>
                <a:ea typeface="Verdana"/>
              </a:rPr>
              <a:t>rafiks.misirovs@lm.gov.lv</a:t>
            </a: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lv-LV" sz="1400" spc="-1" strike="noStrike">
                <a:solidFill>
                  <a:srgbClr val="000000"/>
                </a:solidFill>
                <a:latin typeface="Verdana"/>
                <a:ea typeface="Verdana"/>
              </a:rPr>
              <a:t>www.lm.gov.lv</a:t>
            </a: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7912080" y="-4466520"/>
            <a:ext cx="162000" cy="612684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lv-LV" sz="2200" spc="-1" strike="noStrike">
              <a:solidFill>
                <a:srgbClr val="ffffff"/>
              </a:solidFill>
              <a:latin typeface="Verdana"/>
              <a:ea typeface="Verdana"/>
            </a:endParaRPr>
          </a:p>
        </p:txBody>
      </p:sp>
      <p:sp>
        <p:nvSpPr>
          <p:cNvPr id="454" name=""/>
          <p:cNvSpPr txBox="1"/>
          <p:nvPr/>
        </p:nvSpPr>
        <p:spPr>
          <a:xfrm>
            <a:off x="728640" y="1752120"/>
            <a:ext cx="7958160" cy="4373640"/>
          </a:xfrm>
          <a:prstGeom prst="rect">
            <a:avLst/>
          </a:prstGeom>
          <a:noFill/>
          <a:ln w="0">
            <a:noFill/>
          </a:ln>
        </p:spPr>
        <p:txBody>
          <a:bodyPr lIns="93960" rIns="93960" tIns="46800" bIns="46800" anchor="t">
            <a:normAutofit/>
          </a:bodyPr>
          <a:p>
            <a:pPr algn="ct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Pieteikšanās kārtība, reģistrācija, </a:t>
            </a: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kritēriji un nosacījumi </a:t>
            </a: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dalībai projektā</a:t>
            </a:r>
            <a:endParaRPr b="0" lang="en-US" sz="2800" spc="-1" strike="noStrike">
              <a:solidFill>
                <a:srgbClr val="000000"/>
              </a:solidFill>
              <a:latin typeface="Times New Roman"/>
            </a:endParaRPr>
          </a:p>
        </p:txBody>
      </p:sp>
      <p:sp>
        <p:nvSpPr>
          <p:cNvPr id="455" name="PlaceHolder 2"/>
          <p:cNvSpPr>
            <a:spLocks noGrp="1"/>
          </p:cNvSpPr>
          <p:nvPr>
            <p:ph/>
          </p:nvPr>
        </p:nvSpPr>
        <p:spPr>
          <a:xfrm>
            <a:off x="2636640" y="6324120"/>
            <a:ext cx="1004760" cy="304920"/>
          </a:xfrm>
          <a:prstGeom prst="rect">
            <a:avLst/>
          </a:prstGeom>
          <a:noFill/>
          <a:ln w="0">
            <a:noFill/>
          </a:ln>
        </p:spPr>
        <p:txBody>
          <a:bodyPr lIns="93960" rIns="93960" tIns="46800" bIns="46800" anchor="t">
            <a:normAutofit fontScale="69000"/>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6"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7"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4E0F481-130B-482E-9BB9-3348961E3DF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58" name="Picture 4" descr=""/>
          <p:cNvPicPr/>
          <p:nvPr/>
        </p:nvPicPr>
        <p:blipFill>
          <a:blip r:embed="rId1"/>
          <a:stretch/>
        </p:blipFill>
        <p:spPr>
          <a:xfrm>
            <a:off x="565200" y="3467160"/>
            <a:ext cx="3076560" cy="2857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790280" y="401760"/>
            <a:ext cx="7048440" cy="1271520"/>
          </a:xfrm>
          <a:prstGeom prst="rect">
            <a:avLst/>
          </a:prstGeom>
          <a:noFill/>
          <a:ln w="0">
            <a:noFill/>
          </a:ln>
        </p:spPr>
        <p:txBody>
          <a:bodyPr lIns="93960" rIns="93960" tIns="46800" bIns="46800" anchor="t">
            <a:noAutofit/>
          </a:bodyPr>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2300"/>
            </a:br>
            <a:r>
              <a:rPr b="1" lang="lv-LV" sz="2200" spc="-1" strike="noStrike">
                <a:solidFill>
                  <a:srgbClr val="404040"/>
                </a:solidFill>
                <a:latin typeface="Verdana"/>
                <a:ea typeface="Verdana"/>
              </a:rPr>
              <a:t>Labklājības ministrijas </a:t>
            </a:r>
            <a:br>
              <a:rPr sz="2200"/>
            </a:br>
            <a:r>
              <a:rPr b="1" lang="lv-LV" sz="2200" spc="-1" strike="noStrike">
                <a:solidFill>
                  <a:srgbClr val="404040"/>
                </a:solidFill>
                <a:latin typeface="Verdana"/>
                <a:ea typeface="Verdana"/>
              </a:rPr>
              <a:t>Pasākuma dalībnieku reģistrs</a:t>
            </a:r>
            <a:br>
              <a:rPr sz="1800"/>
            </a:br>
            <a:endParaRPr b="0" lang="en-US" sz="2200" spc="-1" strike="noStrike">
              <a:solidFill>
                <a:srgbClr val="000000"/>
              </a:solidFill>
              <a:latin typeface="Times New Roman"/>
            </a:endParaRPr>
          </a:p>
        </p:txBody>
      </p:sp>
      <p:sp>
        <p:nvSpPr>
          <p:cNvPr id="460" name=""/>
          <p:cNvSpPr txBox="1"/>
          <p:nvPr/>
        </p:nvSpPr>
        <p:spPr>
          <a:xfrm>
            <a:off x="174240" y="2020680"/>
            <a:ext cx="8512200" cy="4771800"/>
          </a:xfrm>
          <a:prstGeom prst="rect">
            <a:avLst/>
          </a:prstGeom>
          <a:noFill/>
          <a:ln w="0">
            <a:noFill/>
          </a:ln>
        </p:spPr>
        <p:txBody>
          <a:bodyPr lIns="93960" rIns="93960" tIns="46800" bIns="46800" anchor="t">
            <a:normAutofit/>
          </a:bodyPr>
          <a:p>
            <a:pPr algn="just">
              <a:lnSpc>
                <a:spcPct val="4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rojekta ietvaros tiek veidots Labklājības ministrijas Pasākuma dalībnieku reģistrs</a:t>
            </a:r>
            <a:endParaRPr b="0" lang="en-US" sz="21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asākuma dalībnieku reģistrs paredz uzkrāt informāciju par pasākuma dalībniekiem, lai nākotnē nodrošinātu kvalitatīvas un pārredzamas statistikas veidošanu, sociālās ietekmes un biznesa projekta sociālās ietekmes novērtēšanu</a:t>
            </a:r>
            <a:endParaRPr b="0" lang="en-US" sz="21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rojekta īstenošanas laikā par Pasākuma dalībnieku reģistru atbildīgā institūcija būs Labklājības ministrija</a:t>
            </a:r>
            <a:endParaRPr b="0" lang="en-US" sz="2100" spc="-1" strike="noStrike">
              <a:solidFill>
                <a:srgbClr val="000000"/>
              </a:solidFill>
              <a:latin typeface="Times New Roman"/>
            </a:endParaRPr>
          </a:p>
          <a:p>
            <a:pPr>
              <a:lnSpc>
                <a:spcPct val="40000"/>
              </a:lnSpc>
              <a:spcBef>
                <a:spcPts val="524"/>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100" spc="-1" strike="noStrike">
              <a:solidFill>
                <a:srgbClr val="000000"/>
              </a:solidFill>
              <a:latin typeface="Times New Roman"/>
            </a:endParaRPr>
          </a:p>
        </p:txBody>
      </p:sp>
      <p:sp>
        <p:nvSpPr>
          <p:cNvPr id="46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4174CE2-D06A-4874-9E87-0B6820336C3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64" name="Picture 2" descr=""/>
          <p:cNvPicPr/>
          <p:nvPr/>
        </p:nvPicPr>
        <p:blipFill>
          <a:blip r:embed="rId1"/>
          <a:stretch/>
        </p:blipFill>
        <p:spPr>
          <a:xfrm>
            <a:off x="2252520" y="401760"/>
            <a:ext cx="1633680" cy="121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364760" y="701280"/>
            <a:ext cx="7023240" cy="10350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900"/>
            </a:br>
            <a:r>
              <a:rPr b="1" lang="lv-LV" sz="2400" spc="-1" strike="noStrike">
                <a:solidFill>
                  <a:srgbClr val="404040"/>
                </a:solidFill>
                <a:latin typeface="Verdana"/>
                <a:ea typeface="Verdana"/>
              </a:rPr>
              <a:t>Pieteikšanās kārtība</a:t>
            </a:r>
            <a:br>
              <a:rPr sz="2200"/>
            </a:br>
            <a:endParaRPr b="0" lang="en-US" sz="2400" spc="-1" strike="noStrike">
              <a:solidFill>
                <a:srgbClr val="000000"/>
              </a:solidFill>
              <a:latin typeface="Times New Roman"/>
            </a:endParaRPr>
          </a:p>
        </p:txBody>
      </p:sp>
      <p:sp>
        <p:nvSpPr>
          <p:cNvPr id="466" name=""/>
          <p:cNvSpPr txBox="1"/>
          <p:nvPr/>
        </p:nvSpPr>
        <p:spPr>
          <a:xfrm>
            <a:off x="421920" y="1898280"/>
            <a:ext cx="8389800" cy="3755880"/>
          </a:xfrm>
          <a:prstGeom prst="rect">
            <a:avLst/>
          </a:prstGeom>
          <a:noFill/>
          <a:ln w="0">
            <a:noFill/>
          </a:ln>
        </p:spPr>
        <p:txBody>
          <a:bodyPr lIns="93960" rIns="93960" tIns="46800" bIns="46800" anchor="t">
            <a:normAutofit/>
          </a:bodyPr>
          <a:p>
            <a:pPr>
              <a:lnSpc>
                <a:spcPct val="100000"/>
              </a:lnSpc>
              <a:spcBef>
                <a:spcPts val="499"/>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404040"/>
                </a:solidFill>
                <a:latin typeface="Verdana"/>
                <a:ea typeface="Verdana"/>
              </a:rPr>
              <a:t>Pieteikties dalībai pasākumā varēs pasākuma mērķa grupas:</a:t>
            </a:r>
            <a:endParaRPr b="0" lang="en-US" sz="2000" spc="-1" strike="noStrike">
              <a:solidFill>
                <a:srgbClr val="000000"/>
              </a:solidFill>
              <a:latin typeface="Times New Roman"/>
            </a:endParaRPr>
          </a:p>
          <a:p>
            <a:pPr lvl="1" marL="762120" indent="-292320" algn="just">
              <a:lnSpc>
                <a:spcPct val="100000"/>
              </a:lnSpc>
              <a:spcBef>
                <a:spcPts val="451"/>
              </a:spcBef>
              <a:spcAft>
                <a:spcPts val="601"/>
              </a:spcAft>
              <a:buClr>
                <a:srgbClr val="404040"/>
              </a:buClr>
              <a:buFont typeface="Verdana"/>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 </a:t>
            </a:r>
            <a:r>
              <a:rPr b="0" lang="lv-LV" sz="1800" spc="-1" strike="noStrike">
                <a:solidFill>
                  <a:srgbClr val="404040"/>
                </a:solidFill>
                <a:latin typeface="Verdana"/>
                <a:ea typeface="Times New Roman"/>
              </a:rPr>
              <a:t>komersanti (sabiedrības ar ierobežotu atbildību un akciju sabiedrības, kas reģistrētas Latvijas Republikas Uzņēmumu reģistrā vairāk nekā 12 mēnešus);</a:t>
            </a:r>
            <a:endParaRPr b="0" lang="en-US" sz="1800" spc="-1" strike="noStrike">
              <a:solidFill>
                <a:srgbClr val="000000"/>
              </a:solidFill>
              <a:latin typeface="Times New Roman"/>
            </a:endParaRPr>
          </a:p>
          <a:p>
            <a:pPr lvl="1" marL="762120" indent="-292320" algn="just">
              <a:lnSpc>
                <a:spcPct val="100000"/>
              </a:lnSpc>
              <a:spcBef>
                <a:spcPts val="26"/>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 spc="-1" strike="noStrike">
              <a:solidFill>
                <a:srgbClr val="000000"/>
              </a:solidFill>
              <a:latin typeface="Times New Roman"/>
            </a:endParaRPr>
          </a:p>
          <a:p>
            <a:pPr lvl="1" marL="762120" indent="-292320" algn="just">
              <a:lnSpc>
                <a:spcPct val="7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2)  biedrības un nodibinājumi.</a:t>
            </a:r>
            <a:endParaRPr b="0" lang="en-US" sz="1800" spc="-1" strike="noStrike">
              <a:solidFill>
                <a:srgbClr val="000000"/>
              </a:solidFill>
              <a:latin typeface="Times New Roman"/>
            </a:endParaRPr>
          </a:p>
          <a:p>
            <a:pPr algn="ctr">
              <a:lnSpc>
                <a:spcPct val="70000"/>
              </a:lnSpc>
              <a:spcBef>
                <a:spcPts val="550"/>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a:p>
            <a:pPr>
              <a:lnSpc>
                <a:spcPct val="70000"/>
              </a:lnSpc>
              <a:spcBef>
                <a:spcPts val="550"/>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p:txBody>
      </p:sp>
      <p:sp>
        <p:nvSpPr>
          <p:cNvPr id="467" name="PlaceHolder 2"/>
          <p:cNvSpPr>
            <a:spLocks noGrp="1"/>
          </p:cNvSpPr>
          <p:nvPr>
            <p:ph/>
          </p:nvPr>
        </p:nvSpPr>
        <p:spPr>
          <a:xfrm>
            <a:off x="384120" y="3949200"/>
            <a:ext cx="6888240" cy="3157560"/>
          </a:xfrm>
          <a:prstGeom prst="rect">
            <a:avLst/>
          </a:prstGeom>
          <a:noFill/>
          <a:ln w="0">
            <a:noFill/>
          </a:ln>
        </p:spPr>
        <p:txBody>
          <a:bodyPr lIns="93960" rIns="93960" tIns="46800" bIns="46800" anchor="t">
            <a:normAutofit/>
          </a:bodyPr>
          <a:p>
            <a:pPr indent="0">
              <a:lnSpc>
                <a:spcPct val="70000"/>
              </a:lnSpc>
              <a:spcBef>
                <a:spcPts val="499"/>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262626"/>
                </a:solidFill>
                <a:latin typeface="Verdana"/>
                <a:ea typeface="Verdana"/>
              </a:rPr>
              <a:t> </a:t>
            </a:r>
            <a:endParaRPr b="0" lang="en-US" sz="2000" spc="-1" strike="noStrike">
              <a:solidFill>
                <a:srgbClr val="000000"/>
              </a:solidFill>
              <a:latin typeface="Times New Roman"/>
            </a:endParaRPr>
          </a:p>
          <a:p>
            <a:pPr indent="0">
              <a:lnSpc>
                <a:spcPct val="70000"/>
              </a:lnSpc>
              <a:spcBef>
                <a:spcPts val="476"/>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undibināti pasākuma dalībnieki:</a:t>
            </a:r>
            <a:endParaRPr b="0" lang="en-US" sz="1900" spc="-1" strike="noStrike">
              <a:solidFill>
                <a:srgbClr val="000000"/>
              </a:solidFill>
              <a:latin typeface="Times New Roman"/>
            </a:endParaRPr>
          </a:p>
          <a:p>
            <a:pPr algn="just">
              <a:lnSpc>
                <a:spcPct val="100000"/>
              </a:lnSpc>
              <a:spcBef>
                <a:spcPts val="400"/>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404040"/>
                </a:solidFill>
                <a:latin typeface="Verdana"/>
                <a:ea typeface="Verdana"/>
              </a:rPr>
              <a:t>komersanti, biedrības un nodibinājumi, kuri, dienā, kad Labklājības ministrijā iesniedz   pieteikumu, reģistrēti Latvijas Republikas Uzņēmumu reģistrā mazāk nekā 12 mēnešus</a:t>
            </a:r>
            <a:endParaRPr b="0" lang="en-US" sz="1600" spc="-1" strike="noStrike">
              <a:solidFill>
                <a:srgbClr val="000000"/>
              </a:solidFill>
              <a:latin typeface="Times New Roman"/>
            </a:endParaRPr>
          </a:p>
          <a:p>
            <a:pPr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6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A8E861F-83B5-4706-837C-82E57D6B7B0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70" name="Picture 2" descr=""/>
          <p:cNvPicPr/>
          <p:nvPr/>
        </p:nvPicPr>
        <p:blipFill>
          <a:blip r:embed="rId1"/>
          <a:stretch/>
        </p:blipFill>
        <p:spPr>
          <a:xfrm>
            <a:off x="7426440" y="3587760"/>
            <a:ext cx="1520640" cy="1808280"/>
          </a:xfrm>
          <a:prstGeom prst="rect">
            <a:avLst/>
          </a:prstGeom>
          <a:ln w="0">
            <a:noFill/>
          </a:ln>
        </p:spPr>
      </p:pic>
      <p:pic>
        <p:nvPicPr>
          <p:cNvPr id="471" name="Picture 6" descr=""/>
          <p:cNvPicPr/>
          <p:nvPr/>
        </p:nvPicPr>
        <p:blipFill>
          <a:blip r:embed="rId2"/>
          <a:stretch/>
        </p:blipFill>
        <p:spPr>
          <a:xfrm>
            <a:off x="7377120" y="484200"/>
            <a:ext cx="1157400" cy="108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533600" y="266760"/>
            <a:ext cx="5718240" cy="696960"/>
          </a:xfrm>
          <a:prstGeom prst="rect">
            <a:avLst/>
          </a:prstGeom>
          <a:noFill/>
          <a:ln w="0">
            <a:noFill/>
          </a:ln>
        </p:spPr>
        <p:txBody>
          <a:bodyPr lIns="93960" rIns="93960" tIns="46800" bIns="46800" anchor="t">
            <a:noAutofit/>
          </a:bodyPr>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800"/>
            </a:br>
            <a:r>
              <a:rPr b="1" lang="lv-LV" sz="2000" spc="-1" strike="noStrike">
                <a:solidFill>
                  <a:srgbClr val="404040"/>
                </a:solidFill>
                <a:latin typeface="Verdana"/>
                <a:ea typeface="Verdana"/>
              </a:rPr>
              <a:t>Kā pretendents tiek izvērtēts </a:t>
            </a:r>
            <a:br>
              <a:rPr sz="2000"/>
            </a:br>
            <a:r>
              <a:rPr b="1" lang="lv-LV" sz="2000" spc="-1" strike="noStrike">
                <a:solidFill>
                  <a:srgbClr val="404040"/>
                </a:solidFill>
                <a:latin typeface="Verdana"/>
                <a:ea typeface="Verdana"/>
              </a:rPr>
              <a:t>un reģistrēts Pasākuma dalībnieku </a:t>
            </a:r>
            <a:br>
              <a:rPr sz="2000"/>
            </a:br>
            <a:r>
              <a:rPr b="1" lang="lv-LV" sz="2000" spc="-1" strike="noStrike">
                <a:solidFill>
                  <a:srgbClr val="404040"/>
                </a:solidFill>
                <a:latin typeface="Verdana"/>
                <a:ea typeface="Verdana"/>
              </a:rPr>
              <a:t>reģistrā?</a:t>
            </a:r>
            <a:br>
              <a:rPr sz="2000"/>
            </a:br>
            <a:br>
              <a:rPr sz="2000"/>
            </a:br>
            <a:br>
              <a:rPr sz="2000"/>
            </a:br>
            <a:endParaRPr b="0" lang="en-US" sz="2000" spc="-1" strike="noStrike">
              <a:solidFill>
                <a:srgbClr val="000000"/>
              </a:solidFill>
              <a:latin typeface="Times New Roman"/>
            </a:endParaRPr>
          </a:p>
        </p:txBody>
      </p:sp>
      <p:sp>
        <p:nvSpPr>
          <p:cNvPr id="473" name=""/>
          <p:cNvSpPr txBox="1"/>
          <p:nvPr/>
        </p:nvSpPr>
        <p:spPr>
          <a:xfrm>
            <a:off x="450360" y="1950840"/>
            <a:ext cx="8186760" cy="4840200"/>
          </a:xfrm>
          <a:prstGeom prst="rect">
            <a:avLst/>
          </a:prstGeom>
          <a:noFill/>
          <a:ln w="0">
            <a:noFill/>
          </a:ln>
        </p:spPr>
        <p:txBody>
          <a:bodyPr lIns="93960" rIns="93960" tIns="46800" bIns="46800" anchor="t">
            <a:normAutofit/>
          </a:bodyPr>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juridiskā forma (sabiedrība ar ierobežotu atbildību, akciju sabiedrība, biedrība un nodibinājum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nav pasludināts maksātnespēj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ar tiesas spriedumu netiek īstenots tiesiskās aizsardzīb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ar tiesas lēmumu netiek īstenots ārpustiesas tiesiskās aizsardzīb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darbība nav apturēta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saimnieciskā darbība nav apturēta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nav likvidēts</a:t>
            </a:r>
            <a:endParaRPr b="0" lang="en-US" sz="2100" spc="-1" strike="noStrike">
              <a:solidFill>
                <a:srgbClr val="000000"/>
              </a:solidFill>
              <a:latin typeface="Times New Roman"/>
            </a:endParaRPr>
          </a:p>
          <a:p>
            <a:pPr marL="343080" indent="-343080">
              <a:lnSpc>
                <a:spcPct val="80000"/>
              </a:lnSpc>
              <a:spcBef>
                <a:spcPts val="55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2"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p:txBody>
      </p:sp>
      <p:sp>
        <p:nvSpPr>
          <p:cNvPr id="474"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5"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6"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8CB98BD-A151-4BCD-9404-24C320EECC8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77" name="Picture 4" descr=""/>
          <p:cNvPicPr/>
          <p:nvPr/>
        </p:nvPicPr>
        <p:blipFill>
          <a:blip r:embed="rId1"/>
          <a:stretch/>
        </p:blipFill>
        <p:spPr>
          <a:xfrm>
            <a:off x="7589880" y="166680"/>
            <a:ext cx="1096920" cy="139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663200" y="658440"/>
            <a:ext cx="7023240" cy="10350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900"/>
            </a:br>
            <a:r>
              <a:rPr b="1" lang="lv-LV" sz="2400" spc="-1" strike="noStrike">
                <a:solidFill>
                  <a:srgbClr val="404040"/>
                </a:solidFill>
                <a:latin typeface="Verdana"/>
                <a:ea typeface="Verdana"/>
              </a:rPr>
              <a:t>Pieteikšanās kārtība</a:t>
            </a:r>
            <a:br>
              <a:rPr sz="2000"/>
            </a:br>
            <a:endParaRPr b="0" lang="en-US" sz="2400" spc="-1" strike="noStrike">
              <a:solidFill>
                <a:srgbClr val="000000"/>
              </a:solidFill>
              <a:latin typeface="Times New Roman"/>
            </a:endParaRPr>
          </a:p>
        </p:txBody>
      </p:sp>
      <p:sp>
        <p:nvSpPr>
          <p:cNvPr id="479" name=""/>
          <p:cNvSpPr txBox="1"/>
          <p:nvPr/>
        </p:nvSpPr>
        <p:spPr>
          <a:xfrm>
            <a:off x="647280" y="1699920"/>
            <a:ext cx="8039160" cy="4179960"/>
          </a:xfrm>
          <a:prstGeom prst="rect">
            <a:avLst/>
          </a:prstGeom>
          <a:noFill/>
          <a:ln w="0">
            <a:noFill/>
          </a:ln>
        </p:spPr>
        <p:txBody>
          <a:bodyPr lIns="93960" rIns="93960" tIns="46800" bIns="46800" anchor="t">
            <a:normAutofit/>
          </a:bodyPr>
          <a:p>
            <a:pPr marL="343080" indent="-343080" algn="just">
              <a:lnSpc>
                <a:spcPct val="11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bklājības ministrijas tīmekļa vietnē tiks publicēta pieteikuma veidlapa un iesniedzamie dokumenti reģistrācijai Pasākuma dalībnieku reģistrā</a:t>
            </a:r>
            <a:endParaRPr b="0" lang="en-US" sz="1700" spc="-1" strike="noStrike">
              <a:solidFill>
                <a:srgbClr val="000000"/>
              </a:solidFill>
              <a:latin typeface="Times New Roman"/>
            </a:endParaRPr>
          </a:p>
          <a:p>
            <a:pPr marL="343080" indent="-343080" algn="just">
              <a:lnSpc>
                <a:spcPct val="11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pieteikties ALTUM īstenotajam finanšu atbalstam projekta ietvaros būs iespējams tikai tiem komersantiem, biedrībām un nodibinājumiem, kuri pieteikušies un reģistrēti Labklājības ministrijas Pasākuma dalībnieku reģistrā</a:t>
            </a:r>
            <a:endParaRPr b="0" lang="en-US" sz="1700" spc="-1" strike="noStrike">
              <a:solidFill>
                <a:srgbClr val="000000"/>
              </a:solidFill>
              <a:latin typeface="Times New Roman"/>
            </a:endParaRPr>
          </a:p>
          <a:p>
            <a:pPr marL="343080" indent="-343080" algn="just">
              <a:lnSpc>
                <a:spcPct val="10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i piedalītos pasākumā, dokumentus varēs iesniegt  klātienē Labklājības ministrijā, Rīgā, Skolas ielā 28, vai arī nosūtīt  pa pastu vai parakstīt ar drošu elektronisko parakstu un laika zīmogu</a:t>
            </a:r>
            <a:endParaRPr b="0" lang="en-US" sz="1700" spc="-1" strike="noStrike">
              <a:solidFill>
                <a:srgbClr val="000000"/>
              </a:solidFill>
              <a:latin typeface="Times New Roman"/>
            </a:endParaRPr>
          </a:p>
          <a:p>
            <a:pPr marL="343080" indent="-343080" algn="just">
              <a:lnSpc>
                <a:spcPct val="10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Dokumentu izskatīšana un pretendentu izvērtēšana notiks viena mēneša laikā no dokumentu saņemšanas brīža</a:t>
            </a:r>
            <a:endParaRPr b="0" lang="en-US" sz="1700" spc="-1" strike="noStrike">
              <a:solidFill>
                <a:srgbClr val="000000"/>
              </a:solidFill>
              <a:latin typeface="Times New Roman"/>
            </a:endParaRPr>
          </a:p>
          <a:p>
            <a:pPr marL="343080" indent="-343080" algn="just">
              <a:lnSpc>
                <a:spcPct val="100000"/>
              </a:lnSpc>
              <a:spcBef>
                <a:spcPts val="400"/>
              </a:spcBef>
              <a:spcAft>
                <a:spcPts val="1199"/>
              </a:spcAft>
              <a:buClr>
                <a:srgbClr val="262626"/>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nSpc>
                <a:spcPct val="70000"/>
              </a:lnSpc>
              <a:spcBef>
                <a:spcPts val="499"/>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80"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1"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2"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EFCDE58-A90F-4660-9DE5-193422C9200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83"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endParaRPr b="0" lang="en-US" sz="1700" spc="-1" strike="noStrike">
              <a:solidFill>
                <a:srgbClr val="000000"/>
              </a:solidFill>
              <a:latin typeface="Times New Roman"/>
            </a:endParaRPr>
          </a:p>
        </p:txBody>
      </p:sp>
      <p:pic>
        <p:nvPicPr>
          <p:cNvPr id="484" name="Picture 1" descr=""/>
          <p:cNvPicPr/>
          <p:nvPr/>
        </p:nvPicPr>
        <p:blipFill>
          <a:blip r:embed="rId1"/>
          <a:stretch/>
        </p:blipFill>
        <p:spPr>
          <a:xfrm>
            <a:off x="7329600" y="149400"/>
            <a:ext cx="1357200" cy="135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898640" y="761760"/>
            <a:ext cx="6842160" cy="103644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200" spc="-1" strike="noStrike">
                <a:solidFill>
                  <a:srgbClr val="404040"/>
                </a:solidFill>
                <a:latin typeface="Verdana"/>
                <a:ea typeface="Verdana"/>
              </a:rPr>
              <a:t>Atlases pazīmes vai kritēriji</a:t>
            </a:r>
            <a:endParaRPr b="0" lang="en-US" sz="2200" spc="-1" strike="noStrike">
              <a:solidFill>
                <a:srgbClr val="000000"/>
              </a:solidFill>
              <a:latin typeface="Times New Roman"/>
            </a:endParaRPr>
          </a:p>
        </p:txBody>
      </p:sp>
      <p:sp>
        <p:nvSpPr>
          <p:cNvPr id="486" name=""/>
          <p:cNvSpPr txBox="1"/>
          <p:nvPr/>
        </p:nvSpPr>
        <p:spPr>
          <a:xfrm>
            <a:off x="622440" y="1684080"/>
            <a:ext cx="7899120" cy="4373640"/>
          </a:xfrm>
          <a:prstGeom prst="rect">
            <a:avLst/>
          </a:prstGeom>
          <a:noFill/>
          <a:ln w="0">
            <a:noFill/>
          </a:ln>
        </p:spPr>
        <p:txBody>
          <a:bodyPr lIns="93960" rIns="93960" tIns="46800" bIns="46800" anchor="t">
            <a:normAutofit/>
          </a:bodyPr>
          <a:p>
            <a:pPr algn="just">
              <a:lnSpc>
                <a:spcPct val="100000"/>
              </a:lnSpc>
              <a:spcBef>
                <a:spcPts val="45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Verdana"/>
              </a:rPr>
              <a:t>Pasākuma dalībnieki atbilst vismaz šādām pazīmēm:</a:t>
            </a:r>
            <a:endParaRPr b="0" lang="en-US" sz="1800" spc="-1" strike="noStrike">
              <a:solidFill>
                <a:srgbClr val="000000"/>
              </a:solidFill>
              <a:latin typeface="Times New Roman"/>
            </a:endParaRPr>
          </a:p>
          <a:p>
            <a:pPr lvl="1" marL="469800">
              <a:lnSpc>
                <a:spcPct val="100000"/>
              </a:lnSpc>
              <a:spcBef>
                <a:spcPts val="451"/>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1) statūtos ir noteikts sociālais mērķis un tam ir pozitīva sociāla ietekme;</a:t>
            </a:r>
            <a:endParaRPr b="0" lang="en-US" sz="1800" spc="-1" strike="noStrike">
              <a:solidFill>
                <a:srgbClr val="000000"/>
              </a:solidFill>
              <a:latin typeface="Times New Roman"/>
            </a:endParaRPr>
          </a:p>
          <a:p>
            <a:pPr lvl="1" marL="469800">
              <a:lnSpc>
                <a:spcPct val="100000"/>
              </a:lnSpc>
              <a:spcBef>
                <a:spcPts val="451"/>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2) peļņa tiek izmantota statūtos noteiktā sociālā mērķa sasniegšanai;</a:t>
            </a:r>
            <a:endParaRPr b="0" lang="en-US" sz="1800" spc="-1" strike="noStrike">
              <a:solidFill>
                <a:srgbClr val="000000"/>
              </a:solidFill>
              <a:latin typeface="Times New Roman"/>
            </a:endParaRPr>
          </a:p>
          <a:p>
            <a:pPr lvl="1" marL="469800">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 </a:t>
            </a:r>
            <a:r>
              <a:rPr b="0" lang="lv-LV" sz="1800" spc="-1" strike="noStrike">
                <a:solidFill>
                  <a:srgbClr val="404040"/>
                </a:solidFill>
                <a:latin typeface="Verdana"/>
                <a:ea typeface="Times New Roman"/>
              </a:rPr>
              <a:t>3) tiek nodarbināti algoti darbinieki.</a:t>
            </a:r>
            <a:endParaRPr b="0" lang="en-US" sz="18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Verdana"/>
              </a:rPr>
              <a:t>Pasākuma dalībnieku pienākums ir nodrošināt atbilstību atlases pazīmēm visā projekta darbības laikā.</a:t>
            </a:r>
            <a:endParaRPr b="0" lang="en-US" sz="1800" spc="-1" strike="noStrike">
              <a:solidFill>
                <a:srgbClr val="000000"/>
              </a:solidFill>
              <a:latin typeface="Times New Roman"/>
            </a:endParaRPr>
          </a:p>
          <a:p>
            <a:pPr>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p:txBody>
      </p:sp>
      <p:sp>
        <p:nvSpPr>
          <p:cNvPr id="48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104B514-D966-4272-98AA-B2CA80244BA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0" name="Picture 3" descr=""/>
          <p:cNvPicPr/>
          <p:nvPr/>
        </p:nvPicPr>
        <p:blipFill>
          <a:blip r:embed="rId1"/>
          <a:stretch/>
        </p:blipFill>
        <p:spPr>
          <a:xfrm>
            <a:off x="5499000" y="4770360"/>
            <a:ext cx="2413080" cy="161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477440" y="530280"/>
            <a:ext cx="6713640" cy="124776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800"/>
            </a:br>
            <a:r>
              <a:rPr b="1" lang="lv-LV" sz="2000" spc="-1" strike="noStrike">
                <a:solidFill>
                  <a:srgbClr val="404040"/>
                </a:solidFill>
                <a:latin typeface="Verdana"/>
                <a:ea typeface="Verdana"/>
              </a:rPr>
              <a:t>Reģistrācijai nepieciešamā informācija </a:t>
            </a:r>
            <a:br>
              <a:rPr sz="2000"/>
            </a:br>
            <a:r>
              <a:rPr b="1" lang="lv-LV" sz="2000" spc="-1" strike="noStrike">
                <a:solidFill>
                  <a:srgbClr val="404040"/>
                </a:solidFill>
                <a:latin typeface="Verdana"/>
                <a:ea typeface="Verdana"/>
              </a:rPr>
              <a:t>par peļņas sadali/ saimniecisko darbību </a:t>
            </a:r>
            <a:endParaRPr b="0" lang="en-US" sz="2000" spc="-1" strike="noStrike">
              <a:solidFill>
                <a:srgbClr val="000000"/>
              </a:solidFill>
              <a:latin typeface="Times New Roman"/>
            </a:endParaRPr>
          </a:p>
        </p:txBody>
      </p:sp>
      <p:sp>
        <p:nvSpPr>
          <p:cNvPr id="492" name=""/>
          <p:cNvSpPr txBox="1"/>
          <p:nvPr/>
        </p:nvSpPr>
        <p:spPr>
          <a:xfrm>
            <a:off x="271080" y="1298160"/>
            <a:ext cx="8737560" cy="5211720"/>
          </a:xfrm>
          <a:prstGeom prst="rect">
            <a:avLst/>
          </a:prstGeom>
          <a:noFill/>
          <a:ln w="0">
            <a:noFill/>
          </a:ln>
        </p:spPr>
        <p:txBody>
          <a:bodyPr lIns="93960" rIns="93960" tIns="46800" bIns="46800" anchor="t">
            <a:normAutofit/>
          </a:bodyPr>
          <a:p>
            <a:pPr algn="ctr">
              <a:lnSpc>
                <a:spcPct val="80000"/>
              </a:lnSpc>
              <a:spcBef>
                <a:spcPts val="400"/>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404040"/>
                </a:solidFill>
                <a:latin typeface="Verdana"/>
                <a:ea typeface="Verdana"/>
              </a:rPr>
              <a:t> </a:t>
            </a:r>
            <a:endParaRPr b="0" lang="en-US" sz="1600" spc="-1" strike="noStrike">
              <a:solidFill>
                <a:srgbClr val="000000"/>
              </a:solidFill>
              <a:latin typeface="Times New Roman"/>
            </a:endParaRPr>
          </a:p>
          <a:p>
            <a:pPr algn="just">
              <a:lnSpc>
                <a:spcPct val="80000"/>
              </a:lnSpc>
              <a:spcBef>
                <a:spcPts val="1199"/>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Komersantam (izņemot jaundibinātu) jāuzrāda, ka iepriekšējā gadā ir bijusi peļņa, un 50% no peļņas atlikuma ir novirzīti sociālā mērķa sasniegšanai</a:t>
            </a:r>
            <a:endParaRPr b="0" lang="en-US" sz="1900" spc="-1" strike="noStrike">
              <a:solidFill>
                <a:srgbClr val="000000"/>
              </a:solidFill>
              <a:latin typeface="Times New Roman"/>
            </a:endParaRPr>
          </a:p>
          <a:p>
            <a:pPr algn="just">
              <a:lnSpc>
                <a:spcPct val="80000"/>
              </a:lnSpc>
              <a:spcBef>
                <a:spcPts val="1199"/>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900" spc="-1" strike="noStrike">
                <a:solidFill>
                  <a:srgbClr val="404040"/>
                </a:solidFill>
                <a:latin typeface="Verdana"/>
                <a:ea typeface="Verdana"/>
              </a:rPr>
              <a:t>vai,</a:t>
            </a:r>
            <a:r>
              <a:rPr b="0" lang="lv-LV" sz="1900" spc="-1" strike="noStrike">
                <a:solidFill>
                  <a:srgbClr val="404040"/>
                </a:solidFill>
                <a:latin typeface="Verdana"/>
                <a:ea typeface="Verdana"/>
              </a:rPr>
              <a:t> ja Komersantam (izņemot jaundibinātu) iepriekšējā gadā nav bijusi peļņa, tad ir jāuzrāda rakstiska iekšējā politika par peļņas sadales aizliegumu (paredzot, ka peļņa netiek sadalīta starp komersanta dalībniekiem, bet tiks novirzīta sociālā mērķa sasniegšanai)</a:t>
            </a:r>
            <a:endParaRPr b="0" lang="en-US" sz="1900" spc="-1" strike="noStrike">
              <a:solidFill>
                <a:srgbClr val="000000"/>
              </a:solidFill>
              <a:latin typeface="Times New Roman"/>
            </a:endParaRPr>
          </a:p>
          <a:p>
            <a:pPr algn="just">
              <a:lnSpc>
                <a:spcPct val="8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vismaz vienam no komersanta (izņemot jaundibinātu) izpildinstitūcijas locekļiem vai vadības pārstāvim ir viena gada pieredze ar sociālās ietekmes saistītu procesu vadīšanu, kas jāuzrāda</a:t>
            </a:r>
            <a:endParaRPr b="0" lang="en-US" sz="1900" spc="-1" strike="noStrike">
              <a:solidFill>
                <a:srgbClr val="000000"/>
              </a:solidFill>
              <a:latin typeface="Times New Roman"/>
            </a:endParaRPr>
          </a:p>
          <a:p>
            <a:pPr algn="just">
              <a:lnSpc>
                <a:spcPct val="8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Biedrībai vai nodibinājumam (izņemot jaundibinātu), iepriekšējā gadā ieņēmumi no saimnieciskās darbības ir vismaz 10 % un nepārsniedz 50%</a:t>
            </a:r>
            <a:endParaRPr b="0" lang="en-US" sz="1900" spc="-1" strike="noStrike">
              <a:solidFill>
                <a:srgbClr val="000000"/>
              </a:solidFill>
              <a:latin typeface="Times New Roman"/>
            </a:endParaRPr>
          </a:p>
          <a:p>
            <a:pPr algn="just">
              <a:lnSpc>
                <a:spcPct val="80000"/>
              </a:lnSpc>
              <a:spcBef>
                <a:spcPts val="476"/>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493"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4"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3C10CBF-5878-4BCA-A7C0-35B3D1D928C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6" name="Picture 8" descr=""/>
          <p:cNvPicPr/>
          <p:nvPr/>
        </p:nvPicPr>
        <p:blipFill>
          <a:blip r:embed="rId1"/>
          <a:stretch/>
        </p:blipFill>
        <p:spPr>
          <a:xfrm>
            <a:off x="8188200" y="214200"/>
            <a:ext cx="738360" cy="939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923840" y="732960"/>
            <a:ext cx="5662440" cy="107172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404040"/>
                </a:solidFill>
                <a:latin typeface="Verdana"/>
                <a:ea typeface="Verdana"/>
              </a:rPr>
              <a:t>Saimnieciskās darbības aprēķināšana biedrībām vai nodibinājumiem </a:t>
            </a:r>
            <a:endParaRPr b="0" lang="en-US" sz="2000" spc="-1" strike="noStrike">
              <a:solidFill>
                <a:srgbClr val="000000"/>
              </a:solidFill>
              <a:latin typeface="Times New Roman"/>
            </a:endParaRPr>
          </a:p>
        </p:txBody>
      </p:sp>
      <p:sp>
        <p:nvSpPr>
          <p:cNvPr id="498" name="PlaceHolder 2"/>
          <p:cNvSpPr>
            <a:spLocks noGrp="1"/>
          </p:cNvSpPr>
          <p:nvPr>
            <p:ph/>
          </p:nvPr>
        </p:nvSpPr>
        <p:spPr>
          <a:xfrm>
            <a:off x="527040" y="6324120"/>
            <a:ext cx="301680" cy="304920"/>
          </a:xfrm>
          <a:prstGeom prst="rect">
            <a:avLst/>
          </a:prstGeom>
          <a:noFill/>
          <a:ln w="0">
            <a:noFill/>
          </a:ln>
        </p:spPr>
        <p:txBody>
          <a:bodyPr lIns="93960" rIns="93960" tIns="46800" bIns="46800" anchor="t">
            <a:normAutofit/>
          </a:bodyPr>
          <a:p>
            <a:pPr indent="0">
              <a:lnSpc>
                <a:spcPct val="80000"/>
              </a:lnSpc>
              <a:spcBef>
                <a:spcPts val="2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800" spc="-1" strike="noStrike">
                <a:solidFill>
                  <a:srgbClr val="000000"/>
                </a:solidFill>
                <a:latin typeface="Verdana"/>
                <a:ea typeface="Verdana"/>
              </a:rPr>
              <a:t>1.</a:t>
            </a:r>
            <a:endParaRPr b="0" lang="en-US" sz="800" spc="-1" strike="noStrike">
              <a:solidFill>
                <a:srgbClr val="000000"/>
              </a:solidFill>
              <a:latin typeface="Times New Roman"/>
            </a:endParaRPr>
          </a:p>
        </p:txBody>
      </p:sp>
      <p:sp>
        <p:nvSpPr>
          <p:cNvPr id="49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A2D22D6-5A39-42F5-86A5-7F522D42ACB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0" name="Picture 8" descr=""/>
          <p:cNvPicPr/>
          <p:nvPr/>
        </p:nvPicPr>
        <p:blipFill>
          <a:blip r:embed="rId1"/>
          <a:stretch/>
        </p:blipFill>
        <p:spPr>
          <a:xfrm>
            <a:off x="7535880" y="168120"/>
            <a:ext cx="998640" cy="1270080"/>
          </a:xfrm>
          <a:prstGeom prst="rect">
            <a:avLst/>
          </a:prstGeom>
          <a:ln w="0">
            <a:noFill/>
          </a:ln>
        </p:spPr>
      </p:pic>
      <p:graphicFrame>
        <p:nvGraphicFramePr>
          <p:cNvPr id="501" name=""/>
          <p:cNvGraphicFramePr/>
          <p:nvPr/>
        </p:nvGraphicFramePr>
        <p:xfrm>
          <a:off x="115920" y="1600200"/>
          <a:ext cx="5875200" cy="6249960"/>
        </p:xfrm>
        <a:graphic>
          <a:graphicData uri="http://schemas.openxmlformats.org/drawingml/2006/table">
            <a:tbl>
              <a:tblPr/>
              <a:tblGrid>
                <a:gridCol w="3587760"/>
                <a:gridCol w="668160"/>
                <a:gridCol w="1619280"/>
              </a:tblGrid>
              <a:tr h="610200">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Rādītāj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Perioda beigās EUR</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102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 Biedru nauda, iestāšanās nauda un citas gadskārtējās iemaks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1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I. Saņemtie ziedojumi un dāvināj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2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80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II. Saņemtās dotācij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3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6528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102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V. </a:t>
                      </a:r>
                      <a:r>
                        <a:rPr b="1" lang="lv-LV" sz="1700" spc="-1" strike="noStrike">
                          <a:solidFill>
                            <a:srgbClr val="404040"/>
                          </a:solidFill>
                          <a:latin typeface="Times New Roman"/>
                        </a:rPr>
                        <a:t>Ieņēmumi no saimnieciskās darbīb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4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49858</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 Citi ieņēm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5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45177</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I. </a:t>
                      </a:r>
                      <a:r>
                        <a:rPr b="1" lang="lv-LV" sz="1700" spc="-1" strike="noStrike">
                          <a:solidFill>
                            <a:srgbClr val="404040"/>
                          </a:solidFill>
                          <a:latin typeface="Times New Roman"/>
                        </a:rPr>
                        <a:t>Ieņēmumi kopā</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6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26212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III.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8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2707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2. Materiālu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9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3847</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 Alg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46506</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4. Sociālās apdrošināšanas maksāj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1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0972</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694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5. Pamatlīdzekļu un nemateriālo ieguldījumu nolietojums un norakstīšana</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2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488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6. Citi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113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64495</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096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X.Izdevumi kopā</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117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2707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02" name="Rectangle 2"/>
          <p:cNvSpPr/>
          <p:nvPr/>
        </p:nvSpPr>
        <p:spPr>
          <a:xfrm>
            <a:off x="6416640" y="2911320"/>
            <a:ext cx="25797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Darbība </a:t>
            </a:r>
            <a:endParaRPr b="0" lang="en-US" sz="18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   </a:t>
            </a:r>
            <a:r>
              <a:rPr b="0" lang="lv-LV" sz="1800" spc="-1" strike="noStrike">
                <a:solidFill>
                  <a:srgbClr val="404040"/>
                </a:solidFill>
                <a:latin typeface="Times New Roman"/>
              </a:rPr>
              <a:t>49858/262123 = 0,19</a:t>
            </a:r>
            <a:r>
              <a:rPr b="0" lang="lv-LV"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03" name="Rectangle 3"/>
          <p:cNvSpPr/>
          <p:nvPr/>
        </p:nvSpPr>
        <p:spPr>
          <a:xfrm>
            <a:off x="7296840" y="485316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1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Raitis Bukovskis</cp:lastModifiedBy>
  <cp:lastPrinted>2017-02-01T13:55:29Z</cp:lastPrinted>
  <dcterms:modified xsi:type="dcterms:W3CDTF">2017-02-13T09:50:46Z</dcterms:modified>
  <cp:revision>551</cp:revision>
  <dc:subject/>
  <dc:title>PowerPoint Presentation</dc:title>
</cp:coreProperties>
</file>